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E1CD-D88F-4F2C-A0E7-5FE975EF8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DDD9-C796-4F99-9FB9-C8E04DCD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9DB2-80A9-496C-84E8-9F2FEC76C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B593-17C2-4863-B9C3-199514D52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F9A6-0D61-45BD-BCF9-EA52D992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CEB6-DF39-41C2-AD4F-5D194EFF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F375-5DCB-4D3C-9E0D-DA22D346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A3AD-83A1-464F-AA60-A8977471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09F0-479C-41CC-BDA5-8B777618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DCAD-85EF-4848-929A-C7555453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CC35-71DE-47D0-A466-30A04D56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7316-9C20-4421-87B9-31159196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A43C-114E-4B06-B5C2-2389A1A57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04720" y="642960"/>
            <a:ext cx="811224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رقت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لسنين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الحلم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قلبي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يكبر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ضي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ساعات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تأمل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فيك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اسه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دي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لشمعات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غفيانة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صوت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نايات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حزنان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عيوني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كاسك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تسك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716360" y="414360"/>
            <a:ext cx="4427640" cy="94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151515"/>
                </a:solidFill>
                <a:latin typeface="Times New Roman"/>
                <a:cs typeface="Arabic Transparent"/>
              </a:rPr>
              <a:t>عني محج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151515"/>
                </a:solidFill>
                <a:latin typeface="Times New Roman"/>
                <a:ea typeface="Arabic Transparent"/>
              </a:rPr>
              <a:t> داخل كاس وقربانة                   </a:t>
            </a:r>
            <a:r>
              <a:rPr b="1" lang="en-US" sz="4400" spc="-1" strike="noStrike">
                <a:solidFill>
                  <a:srgbClr val="151515"/>
                </a:solidFill>
                <a:latin typeface="Times New Roman"/>
                <a:ea typeface="Arabic Transparent"/>
              </a:rPr>
              <a:t>    </a:t>
            </a:r>
            <a:r>
              <a:rPr b="1" lang="ar-SA" sz="4400" spc="-1" strike="noStrike">
                <a:solidFill>
                  <a:srgbClr val="151515"/>
                </a:solidFill>
                <a:latin typeface="Times New Roman"/>
                <a:cs typeface="Arabic Transparent"/>
              </a:rPr>
              <a:t>لكن موجو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151515"/>
                </a:solidFill>
                <a:latin typeface="Times New Roman"/>
                <a:ea typeface="Arabic Transparent"/>
              </a:rPr>
              <a:t> بقلبي وبوجدان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151515"/>
                </a:solidFill>
                <a:latin typeface="Times New Roman"/>
                <a:cs typeface="Arabic Transparent"/>
              </a:rPr>
              <a:t>وجودك خشوع ورهب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151515"/>
                </a:solidFill>
                <a:latin typeface="Times New Roman"/>
                <a:cs typeface="Arabic Transparent"/>
              </a:rPr>
              <a:t>بيعطي سعادة لقلب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151515"/>
                </a:solidFill>
                <a:latin typeface="Times New Roman"/>
                <a:cs typeface="Times New Roman"/>
              </a:rPr>
              <a:t>بينقلني لدنيي تاني</a:t>
            </a:r>
            <a:r>
              <a:rPr b="1" lang="en-US" sz="4400" spc="-1" strike="noStrike">
                <a:solidFill>
                  <a:srgbClr val="151515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04720" y="642960"/>
            <a:ext cx="811224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رقت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لسنين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الحلم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قلبي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يكبر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ضي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ساعات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تأمل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فيك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اسه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دي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لشمعات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غفيانة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صوت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نايات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حزنان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عيوني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كاسك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تسك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71400" y="858960"/>
            <a:ext cx="773928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رة اتمنيت اسهر عندك سهرية                      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نا والليل مع نجماتو المضوي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نجماتو نعسو وناموا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الليل اتغطى بحرامو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بقيت سهرانة عي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04720" y="642960"/>
            <a:ext cx="811224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رقت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لسنين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الحلم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قلبي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يكبر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ضي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ساعات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تأمل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فيك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اسه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دي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لشمعات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غفيانة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صوت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نايات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حزنان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عيوني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كاسك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تسك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427640" y="171360"/>
            <a:ext cx="4564080" cy="9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ركع ساعات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غرقا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بحر جفونك صعبةالحياة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ربي وقاسية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دون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س بإيديك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حمل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عادنية ح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توصلني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شوف الآمان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بعيونك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04720" y="642960"/>
            <a:ext cx="811224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رقت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لسنين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الحلم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قلبي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يكبر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ضي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ساعات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تأمل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فيك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اسه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دي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لشمعات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غفيانة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صوت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نايات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حزنان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عيوني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كاسك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تسك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3:59:33Z</dcterms:created>
  <dc:creator>USER</dc:creator>
  <dc:description/>
  <dc:language>en-US</dc:language>
  <cp:lastModifiedBy>ف</cp:lastModifiedBy>
  <dcterms:modified xsi:type="dcterms:W3CDTF">2006-09-23T20:09:57Z</dcterms:modified>
  <cp:revision>10</cp:revision>
  <dc:subject/>
  <dc:title>PowerPoint Presentation</dc:title>
</cp:coreProperties>
</file>